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2CDB-6FE9-422F-A655-BC6AE56ACD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DA84-7FD7-47CD-9E55-CF41F40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E792-89B1-4EA8-BE87-0479F75E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1B58-5B50-4433-9C99-741A2BC4F0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CD53-85D3-4F16-A7A6-4236E6AF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D5EAD-06B3-4166-B0E7-B3903A5E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CEE94-338E-4A5E-A96A-992997F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94BC1-8E8B-4167-AFC6-38C2F0DC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7074-68C7-4D59-857E-2998B026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4BDD-8D2C-4DD2-BACE-A38CA6B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6D29F-2375-4943-9786-B60E8232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CFC0D-5AE3-4C6B-BEE6-61F84D19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A59E-ED7A-4644-A2E2-43F1294CF302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1337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43800" y="5678640"/>
            <a:ext cx="1600200" cy="117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mod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GBrowse:</a:t>
            </a:r>
            <a:br>
              <a:rPr sz="4400"/>
            </a:b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What’s New?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Lincoln Stein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GMOD Meeting, Toronto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October 2011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Snapsho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66" t="17983" r="2772" b="4558"/>
          <a:stretch/>
        </p:blipFill>
        <p:spPr>
          <a:xfrm>
            <a:off x="0" y="1676520"/>
            <a:ext cx="9277200" cy="578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48108" t="36227" r="28228" b="60058"/>
          <a:stretch/>
        </p:blipFill>
        <p:spPr>
          <a:xfrm>
            <a:off x="2971800" y="2895480"/>
            <a:ext cx="5791320" cy="706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706" t="17983" r="706" b="43103"/>
          <a:stretch/>
        </p:blipFill>
        <p:spPr>
          <a:xfrm>
            <a:off x="0" y="2666880"/>
            <a:ext cx="9144000" cy="2595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51786" t="41874" r="9891" b="6280"/>
          <a:stretch/>
        </p:blipFill>
        <p:spPr>
          <a:xfrm>
            <a:off x="5848200" y="4405320"/>
            <a:ext cx="3200400" cy="2414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rcRect l="24892" t="48366" r="26770" b="37618"/>
          <a:stretch/>
        </p:blipFill>
        <p:spPr>
          <a:xfrm>
            <a:off x="1143000" y="4495680"/>
            <a:ext cx="548640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Authentication Plugin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Very general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lugin modules accept credential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Return true if user is authenticated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(Optional) Provide user name and group(s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Distributed plugi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PAM – support Unix, LDAP, Kerberos, etc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LDAP – Support LDAP users and groups.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Performance Improvements</a:t>
            </a: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Cache parsed configuration files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Useful for configs with 1000’s of track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Render-slave servers use preforking.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962520" y="392760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19" name="tower"/>
          <p:cNvSpPr/>
          <p:nvPr/>
        </p:nvSpPr>
        <p:spPr>
          <a:xfrm>
            <a:off x="1905120" y="449568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4200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1" name="tower"/>
          <p:cNvSpPr/>
          <p:nvPr/>
        </p:nvSpPr>
        <p:spPr>
          <a:xfrm>
            <a:off x="1219320" y="396252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4308480"/>
            <a:ext cx="220968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3" name="tower"/>
          <p:cNvSpPr/>
          <p:nvPr/>
        </p:nvSpPr>
        <p:spPr>
          <a:xfrm>
            <a:off x="1143000" y="491796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334120"/>
            <a:ext cx="21333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5" name="tower"/>
          <p:cNvSpPr/>
          <p:nvPr/>
        </p:nvSpPr>
        <p:spPr>
          <a:xfrm>
            <a:off x="1905120" y="55278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73760"/>
            <a:ext cx="1447560" cy="0"/>
          </a:xfrm>
          <a:prstGeom prst="line">
            <a:avLst/>
          </a:prstGeom>
          <a:ln w="76320">
            <a:solidFill>
              <a:srgbClr val="133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Image (in progress)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28" name="tower"/>
          <p:cNvSpPr/>
          <p:nvPr/>
        </p:nvSpPr>
        <p:spPr>
          <a:xfrm>
            <a:off x="2514600" y="2286000"/>
            <a:ext cx="48096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901" t="36807" r="2542" b="0"/>
          <a:stretch/>
        </p:blipFill>
        <p:spPr>
          <a:xfrm>
            <a:off x="3429000" y="1905120"/>
            <a:ext cx="4948200" cy="2092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0200" y="3809880"/>
            <a:ext cx="685800" cy="38124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Fly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343400"/>
            <a:ext cx="685800" cy="3808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Worm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876920"/>
            <a:ext cx="1828800" cy="4572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133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37ff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66160" y="5427720"/>
            <a:ext cx="24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Amazon Snapshot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0" idx="1"/>
            <a:endCxn id="128" idx="10"/>
          </p:cNvCxnSpPr>
          <p:nvPr/>
        </p:nvCxnSpPr>
        <p:spPr>
          <a:xfrm flipH="1" flipV="1" rot="5400000">
            <a:off x="1658520" y="2953800"/>
            <a:ext cx="1140480" cy="57204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sp>
        <p:nvSpPr>
          <p:cNvPr id="136" name="tower"/>
          <p:cNvSpPr/>
          <p:nvPr/>
        </p:nvSpPr>
        <p:spPr>
          <a:xfrm>
            <a:off x="10666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7" name="tower"/>
          <p:cNvSpPr/>
          <p:nvPr/>
        </p:nvSpPr>
        <p:spPr>
          <a:xfrm>
            <a:off x="60948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8" name="tower"/>
          <p:cNvSpPr/>
          <p:nvPr/>
        </p:nvSpPr>
        <p:spPr>
          <a:xfrm>
            <a:off x="609480" y="304812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39" name="tower"/>
          <p:cNvSpPr/>
          <p:nvPr/>
        </p:nvSpPr>
        <p:spPr>
          <a:xfrm>
            <a:off x="228600" y="2514600"/>
            <a:ext cx="254160" cy="380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0680" y="342900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Rend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Slav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3360" y="30481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Master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28" idx="11"/>
            <a:endCxn id="129" idx="1"/>
          </p:cNvCxnSpPr>
          <p:nvPr/>
        </p:nvCxnSpPr>
        <p:spPr>
          <a:xfrm>
            <a:off x="2995560" y="2674800"/>
            <a:ext cx="434160" cy="277200"/>
          </a:xfrm>
          <a:prstGeom prst="bentConnector3">
            <a:avLst>
              <a:gd name="adj1" fmla="val 49792"/>
            </a:avLst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10"/>
          </p:cNvCxnSpPr>
          <p:nvPr/>
        </p:nvCxnSpPr>
        <p:spPr>
          <a:xfrm flipH="1" flipV="1" rot="5400000">
            <a:off x="2006280" y="1244160"/>
            <a:ext cx="457920" cy="2083680"/>
          </a:xfrm>
          <a:prstGeom prst="bentConnector2">
            <a:avLst/>
          </a:prstGeom>
          <a:ln w="9360">
            <a:solidFill>
              <a:srgbClr val="1337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Cloud Admin Interfac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2459" t="0" r="11166" b="22071"/>
          <a:stretch/>
        </p:blipFill>
        <p:spPr>
          <a:xfrm>
            <a:off x="0" y="380880"/>
            <a:ext cx="8991720" cy="59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Faceted Track and Source Management (2.43?)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6907" r="12528" b="4644"/>
          <a:stretch/>
        </p:blipFill>
        <p:spPr>
          <a:xfrm>
            <a:off x="0" y="1816200"/>
            <a:ext cx="91440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Source code, installation instructions &amp; tutorials available at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gmod.or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1266480" y="2971800"/>
            <a:ext cx="236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OICR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cott Cain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heldon McKay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Peter Ruzanov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8000" y="2971800"/>
            <a:ext cx="3172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1337ff"/>
                </a:solidFill>
                <a:uFillTx/>
                <a:latin typeface="Comic Sans MS"/>
              </a:rPr>
              <a:t>University of Waterloo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Ian Davies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Tony deCatanzaro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Ahmed Einalem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37ff"/>
                </a:solidFill>
                <a:latin typeface="Comic Sans MS"/>
              </a:rPr>
              <a:t>Sukhwinder Lall</a:t>
            </a:r>
            <a:endParaRPr b="0" lang="en-US" sz="24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37ff"/>
                </a:solidFill>
                <a:latin typeface="Comic Sans MS"/>
              </a:rPr>
              <a:t>Chris Vandevelde</a:t>
            </a: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337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333" t="16054" r="5640" b="9529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Open source web-based genome browser used by model organism Dbs and many other group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Adaptors for flat files, indexed files and many relational databases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Highly customizable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Large user and support community.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0fd5"/>
                </a:solidFill>
                <a:latin typeface="Comic Sans MS"/>
              </a:rPr>
              <a:t>Part of the GMOD suite of integrated genome database applications</a:t>
            </a:r>
            <a:endParaRPr b="0" lang="en-US" sz="28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eatures Added in 2011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v2.20 (1/2011) -&gt; v2.41 (10/2011)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User Interface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Horizontal dragging of track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Track favorite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Snapshots &amp; user accou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iPad support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0fd5"/>
                </a:solidFill>
                <a:latin typeface="Comic Sans MS"/>
              </a:rPr>
              <a:t>Internals</a:t>
            </a:r>
            <a:endParaRPr b="0" lang="en-US" sz="24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Authentication plugin architecture (PAM, LDAP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Performance improvements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90fd5"/>
                </a:solidFill>
                <a:latin typeface="Comic Sans MS"/>
              </a:rPr>
              <a:t>EC2 cloud image (in progress)</a:t>
            </a: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Live Demo Time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Horizontal Scroll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Floating Ruler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Filtering and Favorite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User Accoun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Track Sharing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17ba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0fd5"/>
                </a:solidFill>
                <a:latin typeface="Comic Sans MS"/>
              </a:rPr>
              <a:t>Snapshots</a:t>
            </a:r>
            <a:endParaRPr b="0" lang="en-US" sz="3200" spc="-1" strike="noStrike">
              <a:solidFill>
                <a:srgbClr val="190fd5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Horizontal Scrolling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305" t="1949" r="14875" b="4456"/>
          <a:stretch/>
        </p:blipFill>
        <p:spPr>
          <a:xfrm>
            <a:off x="533520" y="15238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4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Floating Ruler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2556" t="16199" r="14339" b="3052"/>
          <a:stretch/>
        </p:blipFill>
        <p:spPr>
          <a:xfrm>
            <a:off x="762120" y="1689120"/>
            <a:ext cx="7391160" cy="516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12556" t="16199" r="14339" b="3052"/>
          <a:stretch/>
        </p:blipFill>
        <p:spPr>
          <a:xfrm>
            <a:off x="762120" y="1676520"/>
            <a:ext cx="73911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a1506"/>
                </a:solidFill>
                <a:latin typeface="Comic Sans MS"/>
              </a:rPr>
              <a:t>Track Filtering and Favorites</a:t>
            </a:r>
            <a:endParaRPr b="0" lang="en-US" sz="40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668" t="16784" r="18350" b="34509"/>
          <a:stretch/>
        </p:blipFill>
        <p:spPr>
          <a:xfrm>
            <a:off x="0" y="1295280"/>
            <a:ext cx="9144000" cy="348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966" t="16434" r="13424" b="18780"/>
          <a:stretch/>
        </p:blipFill>
        <p:spPr>
          <a:xfrm>
            <a:off x="76320" y="2514600"/>
            <a:ext cx="906768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668" t="17135" r="17311" b="32162"/>
          <a:stretch/>
        </p:blipFill>
        <p:spPr>
          <a:xfrm>
            <a:off x="76320" y="1295280"/>
            <a:ext cx="9144000" cy="3578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rcRect l="0" t="17019" r="17830" b="41668"/>
          <a:stretch/>
        </p:blipFill>
        <p:spPr>
          <a:xfrm>
            <a:off x="0" y="1295280"/>
            <a:ext cx="9188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User Accounts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766" t="16750" r="2103" b="3450"/>
          <a:stretch/>
        </p:blipFill>
        <p:spPr>
          <a:xfrm>
            <a:off x="457200" y="1463760"/>
            <a:ext cx="8458200" cy="539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64056" t="21182" r="11568" b="57390"/>
          <a:stretch/>
        </p:blipFill>
        <p:spPr>
          <a:xfrm>
            <a:off x="6095880" y="1523880"/>
            <a:ext cx="2428920" cy="1657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64150" t="21801" r="11568" b="47293"/>
          <a:stretch/>
        </p:blipFill>
        <p:spPr>
          <a:xfrm>
            <a:off x="5791320" y="1219320"/>
            <a:ext cx="2419200" cy="2390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052" t="17490" r="8702" b="9604"/>
          <a:stretch/>
        </p:blipFill>
        <p:spPr>
          <a:xfrm>
            <a:off x="0" y="1219320"/>
            <a:ext cx="8991720" cy="563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rcRect l="766" t="17983" r="2772" b="4558"/>
          <a:stretch/>
        </p:blipFill>
        <p:spPr>
          <a:xfrm>
            <a:off x="0" y="1160640"/>
            <a:ext cx="9277200" cy="57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a1506"/>
                </a:solidFill>
                <a:latin typeface="Comic Sans MS"/>
              </a:rPr>
              <a:t>Track Sharing</a:t>
            </a:r>
            <a:endParaRPr b="0" lang="en-US" sz="4400" spc="-1" strike="noStrike">
              <a:solidFill>
                <a:srgbClr val="da1506"/>
              </a:solidFill>
              <a:latin typeface="Comic Sans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669" t="17737" r="1052" b="28327"/>
          <a:stretch/>
        </p:blipFill>
        <p:spPr>
          <a:xfrm>
            <a:off x="0" y="1752480"/>
            <a:ext cx="9144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4T10:20:49Z</dcterms:created>
  <dc:creator>Keith Bradnam</dc:creator>
  <dc:description/>
  <dc:language>en-US</dc:language>
  <cp:lastModifiedBy>Lincoln Stein</cp:lastModifiedBy>
  <dcterms:modified xsi:type="dcterms:W3CDTF">2011-10-12T03:53:43Z</dcterms:modified>
  <cp:revision>502</cp:revision>
  <dc:subject/>
  <dc:title>WormBase Advisory  Board Meeting</dc:title>
</cp:coreProperties>
</file>